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97222-740B-4192-AD45-6FF2904A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0495E-A7E5-47CB-A470-C25C36DC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A70CF-958E-4879-BB04-5C82F771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DEE08-598C-4D45-9756-1D0316F4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3528-B2B1-4011-90D2-D4495250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C5EA-6E6E-4948-853A-71F6A559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5C8A-8B31-498D-89D0-7E8827A0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92D5-E25F-4689-AEF2-64675C73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83E5-0569-4A85-8FB5-7903DC0F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3BE8-E3AD-4AB5-B026-9C238C3E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2D0E-91A9-47B0-8968-15F1D989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681E8-3D94-483F-8A31-75287077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3666-05BB-4952-B1C6-4636D63C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73D0-00B4-4769-BE4E-CB9E9816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18D3-D93A-4818-B505-D10745B1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26EF-17DE-4A16-AB11-A81B0F6F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ED9E-9FEF-4E57-871C-1E13BF99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3C99-30F6-4A17-AEF8-BDDD1111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B6C5B-DEC8-48A2-ACBC-831FB91A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24F64-8B0E-457F-866C-D344A4F7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FA288-808A-48F2-80F6-57FDB881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023D5-AF57-4DAD-954B-42F610B4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923F8-0A90-4C36-8DC5-AD9BCB7B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629B-9CE3-4DE0-913D-FE3607FF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6A3A-7ADD-4F81-975F-867BDC0244F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5A54-F436-4DD2-919D-DE8D76E6201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680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39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78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Не чуваш ли, Господ вика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 ще бъде Мой слуга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Жетвата е веч узрял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алко са жетварите"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заплата обещав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ни ни високо Той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й ще дойде и ще каже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к съм аз, мен изпрати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2992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Ти не можеш да отидеш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ежду езичницит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пък можеш да намериш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уши близо около теб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да жертвуваш не можеш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иляди за Господа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най-малкото Бог цен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ал да бъде от сърц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28224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Ангелски език ти нямаш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и говориш кат' Павл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пак можеш да разказваш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Спасителя Хрис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не можеш да спечелиш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илните и възрастни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алките тогаз да водиш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Господните ръце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3-20T08:52:17Z</dcterms:modified>
  <cp:revision>174</cp:revision>
  <dc:subject/>
  <dc:title>Slide 1</dc:title>
</cp:coreProperties>
</file>